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5.jpeg" ContentType="image/jpeg"/>
  <Override PartName="/ppt/media/image53.png" ContentType="image/png"/>
  <Override PartName="/ppt/media/image56.jpeg" ContentType="image/jpeg"/>
  <Override PartName="/ppt/media/image50.png" ContentType="image/png"/>
  <Override PartName="/ppt/media/image48.jpeg" ContentType="image/jpeg"/>
  <Override PartName="/ppt/media/image47.jpeg" ContentType="image/jpeg"/>
  <Override PartName="/ppt/media/image46.jpeg" ContentType="image/jpeg"/>
  <Override PartName="/ppt/media/image58.png" ContentType="image/png"/>
  <Override PartName="/ppt/media/image45.png" ContentType="image/png"/>
  <Override PartName="/ppt/media/image40.png" ContentType="image/png"/>
  <Override PartName="/ppt/media/image39.jpeg" ContentType="image/jpeg"/>
  <Override PartName="/ppt/media/image5.png" ContentType="image/png"/>
  <Override PartName="/ppt/media/image20.png" ContentType="image/png"/>
  <Override PartName="/ppt/media/image64.gif" ContentType="image/gif"/>
  <Override PartName="/ppt/media/image57.png" ContentType="image/png"/>
  <Override PartName="/ppt/media/image62.png" ContentType="image/png"/>
  <Override PartName="/ppt/media/image54.png" ContentType="image/png"/>
  <Override PartName="/ppt/media/image19.gif" ContentType="image/gif"/>
  <Override PartName="/ppt/media/image14.jpeg" ContentType="image/jpeg"/>
  <Override PartName="/ppt/media/image66.jpeg" ContentType="image/jpeg"/>
  <Override PartName="/ppt/media/image59.png" ContentType="image/png"/>
  <Override PartName="/ppt/media/image22.png" ContentType="image/png"/>
  <Override PartName="/ppt/media/image24.png" ContentType="image/png"/>
  <Override PartName="/ppt/media/image68.gif" ContentType="image/gif"/>
  <Override PartName="/ppt/media/image12.png" ContentType="image/png"/>
  <Override PartName="/ppt/media/image41.jpeg" ContentType="image/jpeg"/>
  <Override PartName="/ppt/media/image63.gif" ContentType="image/gif"/>
  <Override PartName="/ppt/media/image49.png" ContentType="image/png"/>
  <Override PartName="/ppt/media/image65.jpeg" ContentType="image/jpeg"/>
  <Override PartName="/ppt/media/image70.png" ContentType="image/png"/>
  <Override PartName="/ppt/media/image61.jpeg" ContentType="image/jpeg"/>
  <Override PartName="/ppt/media/image71.png" ContentType="image/png"/>
  <Override PartName="/ppt/media/image51.wmf" ContentType="image/x-wmf"/>
  <Override PartName="/ppt/media/image29.png" ContentType="image/png"/>
  <Override PartName="/ppt/media/image69.png" ContentType="image/png"/>
  <Override PartName="/ppt/media/image23.jpeg" ContentType="image/jpeg"/>
  <Override PartName="/ppt/media/image17.gif" ContentType="image/gif"/>
  <Override PartName="/ppt/media/image52.png" ContentType="image/png"/>
  <Override PartName="/ppt/media/image16.jpeg" ContentType="image/jpeg"/>
  <Override PartName="/ppt/media/image60.jpeg" ContentType="image/jpeg"/>
  <Override PartName="/ppt/media/image30.png" ContentType="image/png"/>
  <Override PartName="/ppt/media/image28.jpeg" ContentType="image/jpeg"/>
  <Override PartName="/ppt/media/image67.gif" ContentType="image/gif"/>
  <Override PartName="/ppt/media/image26.jpeg" ContentType="image/jpeg"/>
  <Override PartName="/ppt/media/image15.jpeg" ContentType="image/jpeg"/>
  <Override PartName="/ppt/media/image25.png" ContentType="image/png"/>
  <Override PartName="/ppt/media/image21.png" ContentType="image/png"/>
  <Override PartName="/ppt/media/image1.jpeg" ContentType="image/jpeg"/>
  <Override PartName="/ppt/media/image7.png" ContentType="image/png"/>
  <Override PartName="/ppt/media/image37.png" ContentType="image/png"/>
  <Override PartName="/ppt/media/image4.png" ContentType="image/png"/>
  <Override PartName="/ppt/media/image34.png" ContentType="image/png"/>
  <Override PartName="/ppt/media/image13.jpeg" ContentType="image/jpeg"/>
  <Override PartName="/ppt/media/image44.png" ContentType="image/png"/>
  <Override PartName="/ppt/media/image42.jpeg" ContentType="image/jpeg"/>
  <Override PartName="/ppt/media/image18.png" ContentType="image/png"/>
  <Override PartName="/ppt/media/image3.gif" ContentType="image/gif"/>
  <Override PartName="/ppt/media/image6.png" ContentType="image/png"/>
  <Override PartName="/ppt/media/image9.jpeg" ContentType="image/jpeg"/>
  <Override PartName="/ppt/media/image36.png" ContentType="image/png"/>
  <Override PartName="/ppt/media/image8.gif" ContentType="image/gif"/>
  <Override PartName="/ppt/media/image3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2.png" ContentType="image/png"/>
  <Override PartName="/ppt/media/image11.gif" ContentType="image/gif"/>
  <Override PartName="/ppt/media/image31.png" ContentType="image/png"/>
  <Override PartName="/ppt/media/image32.jpeg" ContentType="image/jpeg"/>
  <Override PartName="/ppt/media/image33.png" ContentType="image/png"/>
  <Override PartName="/ppt/media/image38.jpeg" ContentType="image/jpeg"/>
  <Override PartName="/ppt/media/image7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3B3-DFDD-4E73-AAE3-6D89888E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D78-97BB-4024-85D1-F9870FFB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7AB-98A5-4266-AEB7-21F45DDD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42D-3854-4EEF-B33A-78A69DC3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4DC0-8106-4F64-833D-04EA8B54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20BF-42F0-4C0B-8452-56615857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1CE8-E7DA-44D6-BB3A-1E76293C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FAEB-C6D5-46C9-9285-9C34A977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7DFD-A645-4754-8A96-E1C0FE00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1A8F-658D-4952-BCC6-2E090A13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F6F4-B215-4D77-A9E7-EFBECF06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BCF-579C-4323-B2C7-321486BE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1A82-D6D4-4506-A1B5-ABA8C42B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4F86-6B6A-4E61-B830-8756AB99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14A2-26F6-4C2A-B96D-30415277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76E7-3384-4CBD-9C25-B557775A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6DA9-5521-4BBC-A797-1DA53F46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FCB-E2B3-43BB-8DCC-3797086F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CAC-1B83-49A1-86A0-6A9C7F43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979-D803-46EC-9842-934E00A7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51B-9540-499E-9F84-BF67FE85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836-D6D5-444D-9F06-1AA52881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756-D0FD-4076-B63C-5CE724A9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633-62F0-4D12-8782-04294682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408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6463-9750-407A-980D-43B31099C4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68F3-F1C2-4564-8A8A-1ABA13CBCD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4080"/>
              </a:buClr>
              <a:buFont typeface="Wingdings" charset="2"/>
              <a:buChar char="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image" Target="../media/image63.gif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gi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67.gif"/><Relationship Id="rId4" Type="http://schemas.openxmlformats.org/officeDocument/2006/relationships/image" Target="../media/image68.gif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5867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act"/>
              </a:rPr>
              <a:t>MCAS Math Terms</a:t>
            </a:r>
            <a:endParaRPr b="0" i="1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005.thm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1542960" cy="1542960"/>
          </a:xfrm>
          <a:prstGeom prst="rect">
            <a:avLst/>
          </a:prstGeom>
          <a:ln w="0">
            <a:noFill/>
          </a:ln>
        </p:spPr>
      </p:pic>
      <p:pic>
        <p:nvPicPr>
          <p:cNvPr id="84" name="top" descr=""/>
          <p:cNvPicPr/>
          <p:nvPr/>
        </p:nvPicPr>
        <p:blipFill>
          <a:blip r:embed="rId3"/>
          <a:stretch/>
        </p:blipFill>
        <p:spPr>
          <a:xfrm>
            <a:off x="7620120" y="0"/>
            <a:ext cx="1523880" cy="1414440"/>
          </a:xfrm>
          <a:prstGeom prst="rect">
            <a:avLst/>
          </a:prstGeom>
          <a:ln w="0">
            <a:noFill/>
          </a:ln>
        </p:spPr>
      </p:pic>
      <p:pic>
        <p:nvPicPr>
          <p:cNvPr id="85" name="bottom" descr=""/>
          <p:cNvPicPr/>
          <p:nvPr/>
        </p:nvPicPr>
        <p:blipFill>
          <a:blip r:embed="rId4"/>
          <a:stretch/>
        </p:blipFill>
        <p:spPr>
          <a:xfrm>
            <a:off x="7620120" y="1371600"/>
            <a:ext cx="1523880" cy="1000080"/>
          </a:xfrm>
          <a:prstGeom prst="rect">
            <a:avLst/>
          </a:prstGeom>
          <a:ln w="0">
            <a:noFill/>
          </a:ln>
        </p:spPr>
      </p:pic>
      <p:pic>
        <p:nvPicPr>
          <p:cNvPr id="86" name="diagram.thm" descr=""/>
          <p:cNvPicPr/>
          <p:nvPr/>
        </p:nvPicPr>
        <p:blipFill>
          <a:blip r:embed="rId5"/>
          <a:stretch/>
        </p:blipFill>
        <p:spPr>
          <a:xfrm>
            <a:off x="0" y="0"/>
            <a:ext cx="14749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480" y="2133360"/>
            <a:ext cx="3810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Regroup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flipH="1">
            <a:off x="1371600" y="2209680"/>
            <a:ext cx="1471680" cy="1671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216920" y="4419720"/>
            <a:ext cx="1736640" cy="2020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38080" y="3809880"/>
            <a:ext cx="734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o exchange amounts of equal value to rename a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2240" y="4370400"/>
            <a:ext cx="43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Compu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5943600"/>
            <a:ext cx="734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o add, subtract, multiply or divide in order to solve a probl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85840" y="1980720"/>
            <a:ext cx="3809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Circle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3505320"/>
            <a:ext cx="64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closed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lane figure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with all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oints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on the figure the same distance from the c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" y="4675320"/>
            <a:ext cx="336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Sphe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94360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solid figure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that has the shape of a round ball; all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oints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are the same distance from the cen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circle4" descr=""/>
          <p:cNvPicPr/>
          <p:nvPr/>
        </p:nvPicPr>
        <p:blipFill>
          <a:blip r:embed="rId2"/>
          <a:stretch/>
        </p:blipFill>
        <p:spPr>
          <a:xfrm>
            <a:off x="2057400" y="2133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sphere4" descr=""/>
          <p:cNvPicPr/>
          <p:nvPr/>
        </p:nvPicPr>
        <p:blipFill>
          <a:blip r:embed="rId3"/>
          <a:stretch/>
        </p:blipFill>
        <p:spPr>
          <a:xfrm>
            <a:off x="4114800" y="4648320"/>
            <a:ext cx="1131840" cy="1131840"/>
          </a:xfrm>
          <a:prstGeom prst="rect">
            <a:avLst/>
          </a:prstGeom>
          <a:ln w="0">
            <a:noFill/>
          </a:ln>
        </p:spPr>
      </p:pic>
      <p:pic>
        <p:nvPicPr>
          <p:cNvPr id="147" name="sphere3" descr=""/>
          <p:cNvPicPr/>
          <p:nvPr/>
        </p:nvPicPr>
        <p:blipFill>
          <a:blip r:embed="rId4"/>
          <a:stretch/>
        </p:blipFill>
        <p:spPr>
          <a:xfrm>
            <a:off x="7010280" y="5257800"/>
            <a:ext cx="1622520" cy="140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86200" y="205740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Cone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010280" y="4572000"/>
            <a:ext cx="1833840" cy="2062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438280" y="2209680"/>
            <a:ext cx="1422360" cy="1640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657600" y="335268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solid figure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that has a circular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base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and one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vertex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360" y="4522680"/>
            <a:ext cx="39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Cylind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5867280"/>
            <a:ext cx="524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solid figure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that has two parallel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bases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that are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congruent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cir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cone4" descr=""/>
          <p:cNvPicPr/>
          <p:nvPr/>
        </p:nvPicPr>
        <p:blipFill>
          <a:blip r:embed="rId4"/>
          <a:stretch/>
        </p:blipFill>
        <p:spPr>
          <a:xfrm>
            <a:off x="1066680" y="2743200"/>
            <a:ext cx="1108080" cy="1143000"/>
          </a:xfrm>
          <a:prstGeom prst="rect">
            <a:avLst/>
          </a:prstGeom>
          <a:ln w="0">
            <a:noFill/>
          </a:ln>
        </p:spPr>
      </p:pic>
      <p:pic>
        <p:nvPicPr>
          <p:cNvPr id="155" name="cylinder6" descr=""/>
          <p:cNvPicPr/>
          <p:nvPr/>
        </p:nvPicPr>
        <p:blipFill>
          <a:blip r:embed="rId5"/>
          <a:stretch/>
        </p:blipFill>
        <p:spPr>
          <a:xfrm>
            <a:off x="5715000" y="5181480"/>
            <a:ext cx="993600" cy="113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90760" y="2209680"/>
            <a:ext cx="32763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Square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273320" cy="2666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295280" y="2209680"/>
            <a:ext cx="1873440" cy="1905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480840" y="3581280"/>
            <a:ext cx="41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rectangle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with 4 equal s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3800" y="601992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arallelogram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with four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right angles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61720" y="4675320"/>
            <a:ext cx="44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Rectang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33920" y="2286000"/>
            <a:ext cx="4572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Triangle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5053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olygon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with three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5943600"/>
            <a:ext cx="84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solid figur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with a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polygon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bas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and all other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faces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triangles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that meet at a common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vertex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3160" y="4599000"/>
            <a:ext cx="37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Pyrami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triangle4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yramid4" descr=""/>
          <p:cNvPicPr/>
          <p:nvPr/>
        </p:nvPicPr>
        <p:blipFill>
          <a:blip r:embed="rId3"/>
          <a:stretch/>
        </p:blipFill>
        <p:spPr>
          <a:xfrm>
            <a:off x="6553080" y="4572000"/>
            <a:ext cx="1817640" cy="123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76720" y="2437920"/>
            <a:ext cx="3504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Faces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1403640" cy="1524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395800" y="3860640"/>
            <a:ext cx="62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olygon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that is a flat surface of 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solid figure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7920" y="4675320"/>
            <a:ext cx="30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Ang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920" y="5994360"/>
            <a:ext cx="77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figure formed by two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rays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that have a common end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angle4" descr=""/>
          <p:cNvPicPr/>
          <p:nvPr/>
        </p:nvPicPr>
        <p:blipFill>
          <a:blip r:embed="rId3"/>
          <a:stretch/>
        </p:blipFill>
        <p:spPr>
          <a:xfrm>
            <a:off x="4724280" y="4648320"/>
            <a:ext cx="1635120" cy="90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Plane Figure</a:t>
            </a:r>
            <a:endParaRPr b="0" i="1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4191120"/>
            <a:ext cx="864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figure in a plane that is formed by lines that are curved, straight, or bo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4640" y="4876920"/>
            <a:ext cx="489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Parallel L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9800" y="6070680"/>
            <a:ext cx="47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Lines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in 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lane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that never inters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lane_figure4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3714840" cy="720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715000" y="52578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54100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57150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71800" y="2742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Chart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781680" y="4267080"/>
            <a:ext cx="1970280" cy="2138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143000" y="2514600"/>
            <a:ext cx="1827360" cy="2630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00520" y="6095880"/>
            <a:ext cx="596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Information collected about people or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99200" y="4572000"/>
            <a:ext cx="220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Dat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0920" y="5257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Data Organizer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1981080" cy="1758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57200" y="4952880"/>
            <a:ext cx="2271600" cy="13780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52480" y="2438280"/>
            <a:ext cx="24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Grap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2743200"/>
            <a:ext cx="2438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Grid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791400" y="4800600"/>
            <a:ext cx="1176120" cy="1357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219320" y="23623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895480" y="4800600"/>
            <a:ext cx="239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Arr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95320" y="6146640"/>
            <a:ext cx="63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n arrangement of objects in rows an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080" y="4191120"/>
            <a:ext cx="89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venly divided and equally spaced squares on a figure or flat surfac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id3" descr=""/>
          <p:cNvPicPr/>
          <p:nvPr/>
        </p:nvPicPr>
        <p:blipFill>
          <a:blip r:embed="rId4"/>
          <a:stretch/>
        </p:blipFill>
        <p:spPr>
          <a:xfrm>
            <a:off x="5562720" y="2438280"/>
            <a:ext cx="1542960" cy="157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60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Impact"/>
              </a:rPr>
              <a:t>Add</a:t>
            </a:r>
            <a:endParaRPr b="0" i="1" lang="en-US" sz="9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629400" y="4191120"/>
            <a:ext cx="2200320" cy="2315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47920" y="3733920"/>
            <a:ext cx="57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e process of finding the total number of items when two or more groups of items are joined; the opposite operation of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6095880"/>
            <a:ext cx="205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neva"/>
              </a:rPr>
              <a:t>3 + 2 = 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add2" descr=""/>
          <p:cNvPicPr/>
          <p:nvPr/>
        </p:nvPicPr>
        <p:blipFill>
          <a:blip r:embed="rId4"/>
          <a:stretch/>
        </p:blipFill>
        <p:spPr>
          <a:xfrm>
            <a:off x="2057400" y="5257800"/>
            <a:ext cx="2503440" cy="331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Ordered Pairs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733920"/>
            <a:ext cx="5345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A pair of numbers used to locate a point on a coordinate grid. The first number tells how far to move </a:t>
            </a:r>
            <a:r>
              <a:rPr b="1" lang="en-US" sz="1800" spc="-1" strike="noStrike">
                <a:solidFill>
                  <a:srgbClr val="0000ee"/>
                </a:solidFill>
                <a:latin typeface="Geneva"/>
              </a:rPr>
              <a:t>horizontally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, and the second number tells how far to move </a:t>
            </a:r>
            <a:r>
              <a:rPr b="1" lang="en-US" sz="1800" spc="-1" strike="noStrike">
                <a:solidFill>
                  <a:srgbClr val="0000ee"/>
                </a:solidFill>
                <a:latin typeface="Geneva"/>
              </a:rPr>
              <a:t>vertically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en-US" sz="22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Genev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1" lang="en-US" sz="2200" spc="-1" strike="noStrike">
                <a:solidFill>
                  <a:srgbClr val="000000"/>
                </a:solidFill>
                <a:latin typeface="Geneva"/>
              </a:rPr>
              <a:t>) represents 1 unit to the right of zero and 2 units up.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rdered_pair4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1898640" cy="197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00040" y="259092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Plot</a:t>
            </a: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i="1" lang="en-US" sz="9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977160" y="5029200"/>
            <a:ext cx="1771560" cy="1828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143000" y="2514600"/>
            <a:ext cx="170172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47720" y="490392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Surve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609588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method of gathering information about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400800" y="1752480"/>
            <a:ext cx="2362320" cy="25909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2819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Digit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35812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Any one of the ten symbols 0, 1, 2, 3, 4, 5, 6, 7, 8, or 9 used to writ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10960" y="4498920"/>
            <a:ext cx="67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Whole Numb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563868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One of the numbers 0, 1, 2, 3, 4, . . . The set of whole numbers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 u="sng">
                <a:solidFill>
                  <a:srgbClr val="f63000"/>
                </a:solidFill>
                <a:uFillTx/>
                <a:latin typeface="Geneva"/>
              </a:rPr>
              <a:t>goes on withou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Fewest</a:t>
            </a:r>
            <a:br>
              <a:rPr sz="6600"/>
            </a:br>
            <a:r>
              <a:rPr b="0" i="1" lang="en-US" sz="6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Leas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 Most</a:t>
            </a: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i="1" lang="en-US" sz="8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2209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Greater Than</a:t>
            </a:r>
            <a:endParaRPr b="0" i="1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0481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A symbol used to compare two numbers, with the greater number given first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8 &gt;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8 is greater tha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4267080"/>
            <a:ext cx="358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Less Th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105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A symbol used to compare two numbers, with the lesser number given fir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6 &lt;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6 is less than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 rot="8128200">
            <a:off x="7009560" y="3657240"/>
            <a:ext cx="1233720" cy="1290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 flipH="1" rot="13472400">
            <a:off x="685800" y="3809520"/>
            <a:ext cx="1160640" cy="121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2209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Equal</a:t>
            </a:r>
            <a:endParaRPr b="0" i="1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457200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Equival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5791320"/>
            <a:ext cx="600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Having the same value or naming the same amou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048120"/>
            <a:ext cx="36925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Equals means the same a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800600" y="3809880"/>
            <a:ext cx="190440" cy="444600"/>
          </a:xfrm>
          <a:prstGeom prst="rect">
            <a:avLst/>
          </a:prstGeom>
          <a:ln w="0">
            <a:noFill/>
          </a:ln>
        </p:spPr>
      </p:pic>
      <p:pic>
        <p:nvPicPr>
          <p:cNvPr id="224" name="equal_to2" descr=""/>
          <p:cNvPicPr/>
          <p:nvPr/>
        </p:nvPicPr>
        <p:blipFill>
          <a:blip r:embed="rId3"/>
          <a:stretch/>
        </p:blipFill>
        <p:spPr>
          <a:xfrm>
            <a:off x="3276720" y="3519360"/>
            <a:ext cx="2057400" cy="1227240"/>
          </a:xfrm>
          <a:prstGeom prst="rect">
            <a:avLst/>
          </a:prstGeom>
          <a:ln w="0">
            <a:noFill/>
          </a:ln>
        </p:spPr>
      </p:pic>
      <p:pic>
        <p:nvPicPr>
          <p:cNvPr id="225" name="equivalent_f3" descr=""/>
          <p:cNvPicPr/>
          <p:nvPr/>
        </p:nvPicPr>
        <p:blipFill>
          <a:blip r:embed="rId4"/>
          <a:stretch/>
        </p:blipFill>
        <p:spPr>
          <a:xfrm>
            <a:off x="6400800" y="4648320"/>
            <a:ext cx="2111400" cy="201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23623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Number Line</a:t>
            </a:r>
            <a:endParaRPr b="0" i="1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859680" y="3657600"/>
            <a:ext cx="75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line with equally spaced tick marks named by nu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number_line4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746748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133720"/>
            <a:ext cx="5181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Average</a:t>
            </a:r>
            <a:endParaRPr b="0" i="1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2767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he number found by dividing the sum of a set of numbers by the numbers of add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4267080"/>
            <a:ext cx="289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Estim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334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o find a number that is close to an exact am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502920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32 x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x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30 x 10 = 300 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estimate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32 x 9 is about 3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133720"/>
            <a:ext cx="5181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Amount</a:t>
            </a:r>
            <a:endParaRPr b="0" i="1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"/>
          <p:cNvSpPr/>
          <p:nvPr/>
        </p:nvSpPr>
        <p:spPr>
          <a:xfrm>
            <a:off x="2743200" y="3809880"/>
            <a:ext cx="289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Val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105520"/>
            <a:ext cx="196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Sig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5791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Number Sentence</a:t>
            </a:r>
            <a:endParaRPr b="0" i="1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41911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Eq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3048120"/>
            <a:ext cx="7620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 sentence that includes numbers, operation symbols, and a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greater than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or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less than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symbol or an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equal sign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5 + 3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76600" y="5105520"/>
            <a:ext cx="74577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A number sentence which shows that two quantities are eq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9 - 3 = 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+ 7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1528920" cy="11574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62120" y="5715000"/>
            <a:ext cx="167616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800" y="236196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Impact"/>
              </a:rPr>
              <a:t>Addend</a:t>
            </a:r>
            <a:endParaRPr b="0" i="1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62920" y="4876920"/>
            <a:ext cx="1620720" cy="1706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42480" y="3962520"/>
            <a:ext cx="7681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number that is added to another in an addition probl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neva"/>
              </a:rPr>
              <a:t>2 + 3 = 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neva"/>
              </a:rPr>
              <a:t>The addends are 2 and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80880" y="4876920"/>
            <a:ext cx="1621080" cy="170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Pattern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3809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 4, 6, 8, 10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36560" y="4267080"/>
            <a:ext cx="550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Relationshi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56386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 set of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ordered pairs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(5,1)       (10,2)       (15,3)       (20,4)       (25,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attern1" descr=""/>
          <p:cNvPicPr/>
          <p:nvPr/>
        </p:nvPicPr>
        <p:blipFill>
          <a:blip r:embed="rId2"/>
          <a:stretch/>
        </p:blipFill>
        <p:spPr>
          <a:xfrm>
            <a:off x="1371600" y="3276720"/>
            <a:ext cx="2354400" cy="285480"/>
          </a:xfrm>
          <a:prstGeom prst="rect">
            <a:avLst/>
          </a:prstGeom>
          <a:ln w="0">
            <a:noFill/>
          </a:ln>
        </p:spPr>
      </p:pic>
      <p:pic>
        <p:nvPicPr>
          <p:cNvPr id="248" name="pattern2" descr=""/>
          <p:cNvPicPr/>
          <p:nvPr/>
        </p:nvPicPr>
        <p:blipFill>
          <a:blip r:embed="rId3"/>
          <a:stretch/>
        </p:blipFill>
        <p:spPr>
          <a:xfrm>
            <a:off x="5029200" y="2971800"/>
            <a:ext cx="2133720" cy="87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52120" y="2362320"/>
            <a:ext cx="480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Rule</a:t>
            </a:r>
            <a:endParaRPr b="0" i="1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0" name=""/>
          <p:cNvSpPr/>
          <p:nvPr/>
        </p:nvSpPr>
        <p:spPr>
          <a:xfrm>
            <a:off x="2928960" y="56386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 is ad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rule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301760" cy="179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Area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434340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Perime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3200400"/>
            <a:ext cx="49532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e number of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square units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need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Geneva"/>
              </a:rPr>
              <a:t>cover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a su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The area is 9 square un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" y="5562720"/>
            <a:ext cx="52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e distanc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Geneva"/>
              </a:rPr>
              <a:t>around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a fig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2 cm + 3 cm + 3 cm = 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he perimeter of this figure is 8 centi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600200" cy="1206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7010280" y="5105520"/>
            <a:ext cx="1681200" cy="1253880"/>
          </a:xfrm>
          <a:prstGeom prst="rect">
            <a:avLst/>
          </a:prstGeom>
          <a:ln w="0">
            <a:noFill/>
          </a:ln>
        </p:spPr>
      </p:pic>
      <p:pic>
        <p:nvPicPr>
          <p:cNvPr id="258" name="area3" descr=""/>
          <p:cNvPicPr/>
          <p:nvPr/>
        </p:nvPicPr>
        <p:blipFill>
          <a:blip r:embed="rId4"/>
          <a:stretch/>
        </p:blipFill>
        <p:spPr>
          <a:xfrm>
            <a:off x="5867280" y="2743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59" name="perimeter3" descr=""/>
          <p:cNvPicPr/>
          <p:nvPr/>
        </p:nvPicPr>
        <p:blipFill>
          <a:blip r:embed="rId5"/>
          <a:stretch/>
        </p:blipFill>
        <p:spPr>
          <a:xfrm>
            <a:off x="4724280" y="4952880"/>
            <a:ext cx="1752840" cy="105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438280"/>
            <a:ext cx="4876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Borrowing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Carrying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50292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o exchange amounts of equal value to rename a number - Regrou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19880" y="5715000"/>
            <a:ext cx="246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22 = 2 tens 2 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 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or 1 ten 12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regroup_ones2" descr=""/>
          <p:cNvPicPr/>
          <p:nvPr/>
        </p:nvPicPr>
        <p:blipFill>
          <a:blip r:embed="rId2"/>
          <a:stretch/>
        </p:blipFill>
        <p:spPr>
          <a:xfrm>
            <a:off x="6429240" y="2971800"/>
            <a:ext cx="1663920" cy="2533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438280"/>
            <a:ext cx="4876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Column  Row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2001960" cy="2173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952880" y="3962520"/>
            <a:ext cx="39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3c3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c3c3c"/>
                </a:solidFill>
                <a:latin typeface="Times New Roman"/>
              </a:rPr>
              <a:t>A </a:t>
            </a:r>
            <a:r>
              <a:rPr b="1" lang="en-US" sz="1800" spc="-1" strike="noStrike" u="sng">
                <a:solidFill>
                  <a:srgbClr val="3c3c3c"/>
                </a:solidFill>
                <a:uFillTx/>
                <a:latin typeface="Times New Roman"/>
              </a:rPr>
              <a:t>ROW</a:t>
            </a:r>
            <a:r>
              <a:rPr b="1" lang="en-US" sz="1800" spc="-1" strike="noStrike">
                <a:solidFill>
                  <a:srgbClr val="3c3c3c"/>
                </a:solidFill>
                <a:latin typeface="Times New Roman"/>
              </a:rPr>
              <a:t> is defined as the </a:t>
            </a:r>
            <a:r>
              <a:rPr b="1" lang="en-US" sz="1800" spc="-1" strike="noStrike" u="sng">
                <a:solidFill>
                  <a:srgbClr val="3c3c3c"/>
                </a:solidFill>
                <a:uFillTx/>
                <a:latin typeface="Times New Roman"/>
              </a:rPr>
              <a:t>horizontal</a:t>
            </a:r>
            <a:r>
              <a:rPr b="1" lang="en-US" sz="1800" spc="-1" strike="noStrike">
                <a:solidFill>
                  <a:srgbClr val="3c3c3c"/>
                </a:solidFill>
                <a:latin typeface="Times New Roman"/>
              </a:rPr>
              <a:t> space that is going across the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76920" y="2819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3c3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c3c3c"/>
                </a:solidFill>
                <a:latin typeface="Times New Roman"/>
              </a:rPr>
              <a:t>A </a:t>
            </a:r>
            <a:r>
              <a:rPr b="1" lang="en-US" sz="1800" spc="-1" strike="noStrike" u="sng">
                <a:solidFill>
                  <a:srgbClr val="3c3c3c"/>
                </a:solidFill>
                <a:uFillTx/>
                <a:latin typeface="Times New Roman"/>
              </a:rPr>
              <a:t>COLUMN</a:t>
            </a:r>
            <a:r>
              <a:rPr b="1" lang="en-US" sz="1800" spc="-1" strike="noStrike">
                <a:solidFill>
                  <a:srgbClr val="3c3c3c"/>
                </a:solidFill>
                <a:latin typeface="Times New Roman"/>
              </a:rPr>
              <a:t> is defined as the </a:t>
            </a:r>
            <a:r>
              <a:rPr b="1" lang="en-US" sz="1800" spc="-1" strike="noStrike" u="sng">
                <a:solidFill>
                  <a:srgbClr val="3c3c3c"/>
                </a:solidFill>
                <a:uFillTx/>
                <a:latin typeface="Times New Roman"/>
              </a:rPr>
              <a:t>vertical</a:t>
            </a:r>
            <a:r>
              <a:rPr b="1" lang="en-US" sz="1800" spc="-1" strike="noStrike">
                <a:solidFill>
                  <a:srgbClr val="3c3c3c"/>
                </a:solidFill>
                <a:latin typeface="Times New Roman"/>
              </a:rPr>
              <a:t> space that is going across the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638680" y="4800600"/>
          <a:ext cx="2438640" cy="1558800"/>
        </p:xfrm>
        <a:graphic>
          <a:graphicData uri="http://schemas.openxmlformats.org/drawingml/2006/table">
            <a:tbl>
              <a:tblPr/>
              <a:tblGrid>
                <a:gridCol w="609840"/>
                <a:gridCol w="664920"/>
                <a:gridCol w="554040"/>
                <a:gridCol w="60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3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3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3000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Angles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0" name=""/>
          <p:cNvSpPr/>
          <p:nvPr/>
        </p:nvSpPr>
        <p:spPr>
          <a:xfrm>
            <a:off x="543240" y="5181480"/>
            <a:ext cx="244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Righ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9200" y="2514600"/>
            <a:ext cx="330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Obtu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3733920"/>
            <a:ext cx="274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Acu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0960" y="3581280"/>
            <a:ext cx="81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n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angl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that has a measure greater than a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right angl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(greater than 90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2040" y="4876920"/>
            <a:ext cx="73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n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angl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that has a measure less than a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right angl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(less than 90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7880" y="6324480"/>
            <a:ext cx="69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n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angl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that forms a square corner and has a measure of 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 flipH="1">
            <a:off x="7467120" y="0"/>
            <a:ext cx="1676520" cy="1752480"/>
          </a:xfrm>
          <a:prstGeom prst="rect">
            <a:avLst/>
          </a:prstGeom>
          <a:ln w="0">
            <a:noFill/>
          </a:ln>
        </p:spPr>
      </p:pic>
      <p:pic>
        <p:nvPicPr>
          <p:cNvPr id="277" name="acute_a6" descr=""/>
          <p:cNvPicPr/>
          <p:nvPr/>
        </p:nvPicPr>
        <p:blipFill>
          <a:blip r:embed="rId3"/>
          <a:stretch/>
        </p:blipFill>
        <p:spPr>
          <a:xfrm>
            <a:off x="4038480" y="3962520"/>
            <a:ext cx="1676520" cy="877680"/>
          </a:xfrm>
          <a:prstGeom prst="rect">
            <a:avLst/>
          </a:prstGeom>
          <a:ln w="0">
            <a:noFill/>
          </a:ln>
        </p:spPr>
      </p:pic>
      <p:pic>
        <p:nvPicPr>
          <p:cNvPr id="278" name="obtuse_angle6" descr=""/>
          <p:cNvPicPr/>
          <p:nvPr/>
        </p:nvPicPr>
        <p:blipFill>
          <a:blip r:embed="rId4"/>
          <a:stretch/>
        </p:blipFill>
        <p:spPr>
          <a:xfrm>
            <a:off x="4038480" y="2514600"/>
            <a:ext cx="1778040" cy="930240"/>
          </a:xfrm>
          <a:prstGeom prst="rect">
            <a:avLst/>
          </a:prstGeom>
          <a:ln w="0">
            <a:noFill/>
          </a:ln>
        </p:spPr>
      </p:pic>
      <p:pic>
        <p:nvPicPr>
          <p:cNvPr id="279" name="right_a4" descr=""/>
          <p:cNvPicPr/>
          <p:nvPr/>
        </p:nvPicPr>
        <p:blipFill>
          <a:blip r:embed="rId5"/>
          <a:stretch/>
        </p:blipFill>
        <p:spPr>
          <a:xfrm>
            <a:off x="3962520" y="5334120"/>
            <a:ext cx="1199880" cy="107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Graphs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1" name=""/>
          <p:cNvSpPr/>
          <p:nvPr/>
        </p:nvSpPr>
        <p:spPr>
          <a:xfrm>
            <a:off x="562320" y="5334120"/>
            <a:ext cx="197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Li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96400" y="2133720"/>
            <a:ext cx="166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Ba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886200"/>
            <a:ext cx="274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Circ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3429000"/>
            <a:ext cx="79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A graph that uses bars to show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A graph that uses horizontal or vertical bars to display countable </a:t>
            </a:r>
            <a:r>
              <a:rPr b="1" lang="en-US" sz="1600" spc="-1" strike="noStrike">
                <a:solidFill>
                  <a:srgbClr val="0000ee"/>
                </a:solidFill>
                <a:latin typeface="Geneva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4876920"/>
            <a:ext cx="5181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A graph the shows how parts of the </a:t>
            </a:r>
            <a:r>
              <a:rPr b="1" lang="en-US" sz="1600" spc="-1" strike="noStrike">
                <a:solidFill>
                  <a:srgbClr val="0000ee"/>
                </a:solidFill>
                <a:latin typeface="Geneva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 are related to the whole and to each other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6920" y="6480000"/>
            <a:ext cx="63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A graph that uses a line to show how </a:t>
            </a:r>
            <a:r>
              <a:rPr b="1" lang="en-US" sz="1600" spc="-1" strike="noStrike">
                <a:solidFill>
                  <a:srgbClr val="0000ee"/>
                </a:solidFill>
                <a:latin typeface="Geneva"/>
              </a:rPr>
              <a:t>data</a:t>
            </a: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 change over tim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bar_graph3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1981080" cy="1616040"/>
          </a:xfrm>
          <a:prstGeom prst="rect">
            <a:avLst/>
          </a:prstGeom>
          <a:ln w="0">
            <a:noFill/>
          </a:ln>
        </p:spPr>
      </p:pic>
      <p:pic>
        <p:nvPicPr>
          <p:cNvPr id="288" name="circle_graph5" descr=""/>
          <p:cNvPicPr/>
          <p:nvPr/>
        </p:nvPicPr>
        <p:blipFill>
          <a:blip r:embed="rId3"/>
          <a:stretch/>
        </p:blipFill>
        <p:spPr>
          <a:xfrm>
            <a:off x="5181480" y="4114800"/>
            <a:ext cx="1905120" cy="1519200"/>
          </a:xfrm>
          <a:prstGeom prst="rect">
            <a:avLst/>
          </a:prstGeom>
          <a:ln w="0">
            <a:noFill/>
          </a:ln>
        </p:spPr>
      </p:pic>
      <p:pic>
        <p:nvPicPr>
          <p:cNvPr id="289" name="line_graph4" descr=""/>
          <p:cNvPicPr/>
          <p:nvPr/>
        </p:nvPicPr>
        <p:blipFill>
          <a:blip r:embed="rId4"/>
          <a:stretch/>
        </p:blipFill>
        <p:spPr>
          <a:xfrm>
            <a:off x="6781680" y="5218200"/>
            <a:ext cx="2062440" cy="1639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2286000"/>
            <a:ext cx="2895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Impact"/>
              </a:rPr>
              <a:t>Sum</a:t>
            </a:r>
            <a:endParaRPr b="0" i="1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74680" y="3962520"/>
            <a:ext cx="4761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e answer to an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addition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probl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neva"/>
              </a:rPr>
              <a:t>12 + 7 = 1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neva"/>
              </a:rPr>
              <a:t>The sum is 19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33560" y="2057400"/>
            <a:ext cx="4343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Impact"/>
              </a:rPr>
              <a:t>Subtract</a:t>
            </a:r>
            <a:endParaRPr b="0" i="1" lang="en-US" sz="6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1752480" cy="1231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835760" y="5638680"/>
            <a:ext cx="115272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3352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he process of finding how many are left when a number of items are taken away from a group of items; the process of finding the difference when two groups are compared; the opposite operation of </a:t>
            </a:r>
            <a:r>
              <a:rPr b="1" lang="en-US" sz="1800" spc="-1" strike="noStrike">
                <a:solidFill>
                  <a:srgbClr val="0000ee"/>
                </a:solidFill>
                <a:latin typeface="Geneva"/>
              </a:rPr>
              <a:t>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4419720"/>
            <a:ext cx="1828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neva"/>
              </a:rPr>
              <a:t>6 – 2 = 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72000" y="5029200"/>
            <a:ext cx="455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Impact"/>
              </a:rPr>
              <a:t>Differ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5334120"/>
            <a:ext cx="4419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he answer in a subtraction probl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neva"/>
              </a:rPr>
              <a:t>8 - 5 =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neva"/>
              </a:rPr>
              <a:t>3 is the differen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ubtract1" descr=""/>
          <p:cNvPicPr/>
          <p:nvPr/>
        </p:nvPicPr>
        <p:blipFill>
          <a:blip r:embed="rId4"/>
          <a:stretch/>
        </p:blipFill>
        <p:spPr>
          <a:xfrm>
            <a:off x="2438280" y="4648320"/>
            <a:ext cx="2651400" cy="28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Multiply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696080" y="5410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219320" y="2057400"/>
            <a:ext cx="1030320" cy="114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5800" y="32004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e process of finding the total number of items in equal-sized groups, or of finding the total number of items in a given number of groups when each group contains the same number of items; Multiplication is the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invers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of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division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03040" y="4495680"/>
            <a:ext cx="170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neva"/>
              </a:rPr>
              <a:t>3 x 4 = 1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00800" y="5334120"/>
            <a:ext cx="37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Produc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5410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he answer to a </a:t>
            </a:r>
            <a:r>
              <a:rPr b="1" lang="en-US" sz="1800" spc="-1" strike="noStrike">
                <a:solidFill>
                  <a:srgbClr val="0000ee"/>
                </a:solidFill>
                <a:latin typeface="Geneva"/>
              </a:rPr>
              <a:t>multiplication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6 x 2 = </a:t>
            </a:r>
            <a:r>
              <a:rPr b="1" lang="en-US" sz="1800" spc="-1" strike="noStrike">
                <a:solidFill>
                  <a:srgbClr val="ff0033"/>
                </a:solidFill>
                <a:latin typeface="Geneva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       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he product is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multi3" descr=""/>
          <p:cNvPicPr/>
          <p:nvPr/>
        </p:nvPicPr>
        <p:blipFill>
          <a:blip r:embed="rId4"/>
          <a:stretch/>
        </p:blipFill>
        <p:spPr>
          <a:xfrm>
            <a:off x="1905120" y="4343400"/>
            <a:ext cx="1904760" cy="90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09320" y="2209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Divide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4876920"/>
            <a:ext cx="1332000" cy="1833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867280" y="5105520"/>
            <a:ext cx="2286000" cy="1589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32004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e process of sharing a number of items to find how many groups can be made or how many items will be in each group; the opposite operation of </a:t>
            </a:r>
            <a:r>
              <a:rPr b="0" lang="en-US" sz="1800" spc="-1" strike="noStrike">
                <a:solidFill>
                  <a:srgbClr val="0000ee"/>
                </a:solidFill>
                <a:latin typeface="Geneva"/>
              </a:rPr>
              <a:t>multiplication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4038480"/>
            <a:ext cx="1447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3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division3" descr=""/>
          <p:cNvPicPr/>
          <p:nvPr/>
        </p:nvPicPr>
        <p:blipFill>
          <a:blip r:embed="rId4"/>
          <a:stretch/>
        </p:blipFill>
        <p:spPr>
          <a:xfrm>
            <a:off x="1600200" y="4419720"/>
            <a:ext cx="3429000" cy="20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2209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Quotient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276720"/>
            <a:ext cx="7467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e number, not including the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remainder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, that results from dividing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35 ÷ 5 = </a:t>
            </a:r>
            <a:r>
              <a:rPr b="1" lang="en-US" sz="2000" spc="-1" strike="noStrike">
                <a:solidFill>
                  <a:srgbClr val="006633"/>
                </a:solidFill>
                <a:latin typeface="Geneva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 The quotient is 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3080" y="4724280"/>
            <a:ext cx="518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Remaind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6019920"/>
            <a:ext cx="64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e amount left over when a number cannot be divided equ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quotient3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974880" cy="763560"/>
          </a:xfrm>
          <a:prstGeom prst="rect">
            <a:avLst/>
          </a:prstGeom>
          <a:ln w="0">
            <a:noFill/>
          </a:ln>
        </p:spPr>
      </p:pic>
      <p:pic>
        <p:nvPicPr>
          <p:cNvPr id="127" name="remainder3" descr=""/>
          <p:cNvPicPr/>
          <p:nvPr/>
        </p:nvPicPr>
        <p:blipFill>
          <a:blip r:embed="rId3"/>
          <a:stretch/>
        </p:blipFill>
        <p:spPr>
          <a:xfrm>
            <a:off x="6248520" y="5334120"/>
            <a:ext cx="2361960" cy="104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2057400"/>
            <a:ext cx="3733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Factors</a:t>
            </a:r>
            <a:endParaRPr b="0" i="1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080" y="4419720"/>
            <a:ext cx="986040" cy="1209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3505320"/>
            <a:ext cx="51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 number that is multiplied by another number to find a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roduct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41148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Multip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579132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e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product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of a given </a:t>
            </a:r>
            <a:r>
              <a:rPr b="1" lang="en-US" sz="2000" spc="-1" strike="noStrike">
                <a:solidFill>
                  <a:srgbClr val="0000ee"/>
                </a:solidFill>
                <a:latin typeface="Geneva"/>
              </a:rPr>
              <a:t>whole number</a:t>
            </a: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 and another whole nu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590920"/>
            <a:ext cx="2667240" cy="7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4 x 7 = 28    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The factors are 4 and 7</a:t>
            </a:r>
            <a:r>
              <a:rPr b="0" lang="en-US" sz="27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multiple4" descr=""/>
          <p:cNvPicPr/>
          <p:nvPr/>
        </p:nvPicPr>
        <p:blipFill>
          <a:blip r:embed="rId3"/>
          <a:stretch/>
        </p:blipFill>
        <p:spPr>
          <a:xfrm>
            <a:off x="228600" y="5791320"/>
            <a:ext cx="3581280" cy="75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23:11:19Z</dcterms:created>
  <dc:creator>Janet Amrock</dc:creator>
  <dc:description/>
  <dc:language>en-US</dc:language>
  <cp:lastModifiedBy>Boston Public Schools</cp:lastModifiedBy>
  <dcterms:modified xsi:type="dcterms:W3CDTF">2006-03-14T16:30:24Z</dcterms:modified>
  <cp:revision>28</cp:revision>
  <dc:subject/>
  <dc:title>Add Addend Sum</dc:title>
</cp:coreProperties>
</file>